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R 110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actions that a person tak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purchasing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ducts and servic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the mental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cial processes th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cee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follow these action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sumer Purchase Decision Process (CPDP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rceive a need: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blem Recogni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ek information on how to fill the need: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formation Searc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 (Internal sources &amp; External Source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sessing the information: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lternative Evalu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  (Form an Evoked Se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lect and Alternative: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urchase Decis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Purchase feeling: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ost-purchase Behaviou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Cognitive Dissonanc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vel of Involvement in the CPD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ertain buying situations require more consideration than others.  There are three types of problem solving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outine Problem Solving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- Used to buy common goods that have little risk.  (e.g. buying your usual type of toothpaste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imited Problem Solving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- Used to buy more complex, less often purchased items that may offer more risk. (e.g. buying car mat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xtended Problem Solving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- Used to buy complex items with great risk. (e.g. buying a new ca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fluences on the CPD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s that come from the buying situation (physical and mental) that you find yourself in during the CPDP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inly internal, your mindset affects the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 that come from society and our social surrounding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ffect of the sellers efforts in manipulating the price, place, product and promotion on the consumers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se are influences on the CPDP that are related to the situation that the buyer finds him/herself in when making the buying decision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ituational Influences 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urchase Task - Amount of effort require to buy a produc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Surroundings - The people around you when you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hysical Surrounding - The building/place you are in to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emporal Effects - Time related effec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ntecedent State - Mood of the buyer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48600" indent="-18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ee Maslow’s Hierarchy of need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ersona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ercep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48600" indent="-1897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Note the perception process - Selective percep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948600" indent="-1897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Note the importance of risk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Learn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48600" indent="-1897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Behavioural Learning - learned through experienc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948600" indent="-1897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Cognitive Learning - learned through mental processes such as thinking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948600" indent="-1897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Brand Loyalty -  learned through experience or othe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Values, Beliefs &amp; Attitud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48600" indent="-1897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Attitude formation &amp; changi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Lifesty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48600" indent="-1897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Mode of living - Self defi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ersonal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Opinion leaders affect your decision as does word-of-mouth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Reference Grou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You look to these people as a measure of your relative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amily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Where the family is in their lifecycle affects their purchase decisio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Cla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division of society that you feel you fall int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ulture and Subcul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accepted set of values and beliefs and attitudes that exist amongst a single group in society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re is a great deal of influence on the CPDP by th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roduct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rice of the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way the product is Promo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lace where the product is sold or how it is deliver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5T09:49:08Z</dcterms:created>
  <dc:creator>Paul/Evelyn Tilley</dc:creator>
  <dc:description/>
  <dc:language>en-US</dc:language>
  <cp:lastModifiedBy>Tilley, Paul (C'ville)</cp:lastModifiedBy>
  <dcterms:modified xsi:type="dcterms:W3CDTF">2011-10-31T17:03:59Z</dcterms:modified>
  <cp:revision>8</cp:revision>
  <dc:subject/>
  <dc:title>Consumer Behavi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